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5638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E8B6-5F17-4604-8A73-E433CA3CB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037A-EC8F-402A-B346-3C62086C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3741-FA8D-46B1-A33F-D3F70132D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151F-BEB9-44AC-99F2-AD1112F7B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2D46-4036-4599-AEC5-3F4DFC7C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3261-0C3D-4769-97C4-B16959F1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153E-37D5-428D-A768-3B603867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18DB-4497-4A5D-9850-F091806E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D33E-757B-4F06-B1BB-16F8723E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DADD-9974-4482-9F1A-1B5D24AD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A0A1-5B41-4DD5-8C08-81920485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B0FA-AEDC-4FB0-958A-E91C7904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C3DE-6526-4387-BBF1-1375E2EF8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EGf3iw7pKM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152280"/>
            <a:ext cx="4648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Jokerman"/>
              </a:rPr>
              <a:t>BELL RINGER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Jokerman"/>
              <a:ea typeface="Joker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400800" y="3657600"/>
            <a:ext cx="2514600" cy="2965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1295280"/>
            <a:ext cx="79246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integer for $8 withdrawn from a bank accou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er the integers {-2, 4, -1, 2, -8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-|17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|-8|+|12|+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-9 __ 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er: -2, -4, 0, 5,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400800"/>
            <a:ext cx="52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will learn how to add and subtract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867280" y="304920"/>
            <a:ext cx="2667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ambria Math"/>
              </a:rPr>
              <a:t>Lesson 1-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ambria Math"/>
              <a:ea typeface="Cambria Mat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6400800"/>
            <a:ext cx="52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will learn how to add and subtract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INTEGER RUL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1752480"/>
            <a:ext cx="86868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ubrac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DD THE OPPO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SIG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dd the number and keep the same 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SIG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btract the numbers and keep the sign of the larger numb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2280" y="6400800"/>
            <a:ext cx="52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will learn how to add and subtract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CHECK FOR UNDERSTANDING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1752480"/>
            <a:ext cx="8686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.67  #3 – 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.72  #3 – 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6400800"/>
            <a:ext cx="52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will learn how to add and subtract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INTEGER W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752480"/>
            <a:ext cx="8534160" cy="49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D </a:t>
            </a:r>
            <a:r>
              <a:rPr b="0" lang="en-US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Negativ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BLACK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osi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 (1) Jack (11) Queen (12) King (13) Jokers 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layer flips two card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integers (5 min) / Subtract integers (5 m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the answer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ayer with larger answer gets the card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ayer with the most cards at the end, WI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2280" y="6400800"/>
            <a:ext cx="52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will learn how to add and subtract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CREATE CARD WORKSHEE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752480"/>
            <a:ext cx="853416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the cards to create a worksh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D (-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BLACK (+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 (1) Jack (11) Queen (12) King (13) Jokers (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____ + 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____ -  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more for Extra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2280" y="6400800"/>
            <a:ext cx="52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will learn how to add and subtract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JOURNA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2438280"/>
            <a:ext cx="85341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ll me what you learned today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s if you don’t know the Integer Rul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533520"/>
            <a:ext cx="7696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HOMEWORK CHECK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7924680" cy="26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memade Integers Worksheet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points for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6400800"/>
            <a:ext cx="52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will learn how to add and subtract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533520"/>
            <a:ext cx="7696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LESS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2362320"/>
            <a:ext cx="79246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nd SUBTRACTING INTE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BRA 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6400800"/>
            <a:ext cx="52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will learn how to add and subtract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533520"/>
            <a:ext cx="7696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NOT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6400800"/>
            <a:ext cx="52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will learn how to add and subtract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28600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subtraction AL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 THE OPPO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You TU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EGf3iw7pK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280" y="6400800"/>
            <a:ext cx="52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will learn how to add and subtract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792468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arrows go to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 arrows go to 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at 0 (ZE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first arrow to represent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second arrow from that point to represent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umb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53352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NUMBER LIN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6400800"/>
            <a:ext cx="52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will learn how to add and subtract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752480"/>
            <a:ext cx="79246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+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4 + 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4 – (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1 +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 –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+ -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– (-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53352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NUMBER LIN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43000" y="5943600"/>
            <a:ext cx="6486480" cy="343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343400" y="5791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5791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280" y="6400800"/>
            <a:ext cx="52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will learn how to add and subtract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52388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GREEN is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 is NEG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ALGEBRA TIL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97180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1 gr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CELS ou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+ -1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4495680"/>
            <a:ext cx="380880" cy="3812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00200" y="44956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1676520"/>
            <a:ext cx="38124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23623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280" y="6400800"/>
            <a:ext cx="525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will learn how to add and subtract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ALGEBRA TIL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752480"/>
            <a:ext cx="79246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+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4 + 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4 – (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1 +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 –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+ -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– (-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5257800"/>
            <a:ext cx="38124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2578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57600" y="5257800"/>
            <a:ext cx="38088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91120" y="5257800"/>
            <a:ext cx="38088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5791320"/>
            <a:ext cx="38088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5791320"/>
            <a:ext cx="38124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3962520"/>
            <a:ext cx="1828800" cy="6094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21:25:21Z</dcterms:created>
  <dc:creator>rasmusa</dc:creator>
  <dc:description/>
  <dc:language>en-US</dc:language>
  <cp:lastModifiedBy>zz1</cp:lastModifiedBy>
  <dcterms:modified xsi:type="dcterms:W3CDTF">2010-09-14T12:29:35Z</dcterms:modified>
  <cp:revision>3</cp:revision>
  <dc:subject/>
  <dc:title>Slide 1</dc:title>
</cp:coreProperties>
</file>